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42.png" ContentType="image/png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33.wmf" ContentType="image/x-wmf"/>
  <Override PartName="/ppt/media/image13.png" ContentType="image/png"/>
  <Override PartName="/ppt/media/image45.wmf" ContentType="image/x-wmf"/>
  <Override PartName="/ppt/media/image2.png" ContentType="image/png"/>
  <Override PartName="/ppt/media/image46.wmf" ContentType="image/x-wmf"/>
  <Override PartName="/ppt/media/image3.png" ContentType="image/png"/>
  <Override PartName="/ppt/media/image8.wmf" ContentType="image/x-wmf"/>
  <Override PartName="/ppt/media/image40.png" ContentType="image/png"/>
  <Override PartName="/ppt/media/image38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48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4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536650">
            <a:hlinkClick r:id="rId3" action="ppaction://hlinksldjump"/>
          </p:cNvPr>
          <p:cNvSpPr/>
          <p:nvPr/>
        </p:nvSpPr>
        <p:spPr>
          <a:xfrm>
            <a:off x="1917720" y="542880"/>
            <a:ext cx="1434960" cy="38088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8" name="图片 536667" descr="图片1"/>
          <p:cNvPicPr/>
          <p:nvPr/>
        </p:nvPicPr>
        <p:blipFill>
          <a:blip r:embed="rId4"/>
          <a:srcRect l="0" t="0" r="32242" b="-6897"/>
          <a:stretch/>
        </p:blipFill>
        <p:spPr>
          <a:xfrm>
            <a:off x="3562200" y="728640"/>
            <a:ext cx="2168640" cy="312840"/>
          </a:xfrm>
          <a:prstGeom prst="rect">
            <a:avLst/>
          </a:prstGeom>
          <a:ln w="0">
            <a:noFill/>
          </a:ln>
        </p:spPr>
      </p:pic>
      <p:sp>
        <p:nvSpPr>
          <p:cNvPr id="39" name="矩形 536644">
            <a:hlinkClick r:id="rId5" action="ppaction://hlinksldjump"/>
          </p:cNvPr>
          <p:cNvSpPr/>
          <p:nvPr/>
        </p:nvSpPr>
        <p:spPr>
          <a:xfrm>
            <a:off x="3575160" y="773280"/>
            <a:ext cx="955440" cy="199800"/>
          </a:xfrm>
          <a:prstGeom prst="rect">
            <a:avLst/>
          </a:prstGeom>
          <a:solidFill>
            <a:srgbClr val="99cc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矩形 536668">
            <a:hlinkClick r:id="rId6" action="ppaction://hlinksldjump"/>
          </p:cNvPr>
          <p:cNvSpPr/>
          <p:nvPr/>
        </p:nvSpPr>
        <p:spPr>
          <a:xfrm>
            <a:off x="4629240" y="784080"/>
            <a:ext cx="1074600" cy="189000"/>
          </a:xfrm>
          <a:prstGeom prst="rect">
            <a:avLst/>
          </a:prstGeom>
          <a:solidFill>
            <a:srgbClr val="99cc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.wmf"/><Relationship Id="rId19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368675"/>
          <p:cNvSpPr/>
          <p:nvPr/>
        </p:nvSpPr>
        <p:spPr>
          <a:xfrm>
            <a:off x="560520" y="1849320"/>
            <a:ext cx="802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课时　正比例和反比例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0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1048577"/>
          <p:cNvSpPr/>
          <p:nvPr/>
        </p:nvSpPr>
        <p:spPr>
          <a:xfrm>
            <a:off x="263520" y="182556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在比例尺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:40000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地图上，量得北京到上海的直线距离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一架飞机以每小时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00 k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速度从北京飞往上海，大约需要多少小时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00000 cm=40 km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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×40=8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千米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00÷500=1.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小时）  答：大约需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.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小时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049601"/>
          <p:cNvSpPr/>
          <p:nvPr/>
        </p:nvSpPr>
        <p:spPr>
          <a:xfrm>
            <a:off x="263520" y="1271520"/>
            <a:ext cx="862020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某天早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，一根旗杆和一棵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小树的影子长度如右图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已知旗杆高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，这棵小树有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高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解：设这棵小树高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。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x∶12=15∶2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x=15×12÷2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x=9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棵小树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45" name="组合 1049604"/>
          <p:cNvGrpSpPr/>
          <p:nvPr/>
        </p:nvGrpSpPr>
        <p:grpSpPr>
          <a:xfrm>
            <a:off x="5016600" y="1517760"/>
            <a:ext cx="3946320" cy="1606320"/>
            <a:chOff x="5016600" y="1517760"/>
            <a:chExt cx="3946320" cy="1606320"/>
          </a:xfrm>
        </p:grpSpPr>
        <p:sp>
          <p:nvSpPr>
            <p:cNvPr id="146" name="矩形 1049603"/>
            <p:cNvSpPr/>
            <p:nvPr/>
          </p:nvSpPr>
          <p:spPr>
            <a:xfrm>
              <a:off x="5016600" y="1517760"/>
              <a:ext cx="3939840" cy="15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47" name="图片 1049605" descr=""/>
            <p:cNvPicPr/>
            <p:nvPr/>
          </p:nvPicPr>
          <p:blipFill>
            <a:blip r:embed="rId1"/>
            <a:stretch/>
          </p:blipFill>
          <p:spPr>
            <a:xfrm>
              <a:off x="5016600" y="1517760"/>
              <a:ext cx="3946320" cy="1606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1050625"/>
          <p:cNvSpPr/>
          <p:nvPr/>
        </p:nvSpPr>
        <p:spPr>
          <a:xfrm>
            <a:off x="195120" y="1776240"/>
            <a:ext cx="86202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测得树影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，你能求出此时旗杆的影子有多长吗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解：设旗杆的影子长度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。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宋体"/>
              </a:rPr>
              <a:t>15∶y=9∶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s-ES" sz="2200" spc="-1" strike="noStrike">
                <a:solidFill>
                  <a:srgbClr val="ff0000"/>
                </a:solidFill>
                <a:latin typeface="宋体"/>
              </a:rPr>
              <a:t>y=15×4÷9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s-ES" sz="2200" spc="-1" strike="noStrike">
                <a:solidFill>
                  <a:srgbClr val="ff0000"/>
                </a:solidFill>
                <a:latin typeface="宋体"/>
              </a:rPr>
              <a:t>y=60÷9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s-ES" sz="2200" spc="-1" strike="noStrike">
                <a:solidFill>
                  <a:srgbClr val="ff0000"/>
                </a:solidFill>
                <a:latin typeface="宋体"/>
              </a:rPr>
              <a:t>y=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49" name="对象 1050626"/>
          <p:cNvGraphicFramePr/>
          <p:nvPr/>
        </p:nvGraphicFramePr>
        <p:xfrm>
          <a:off x="1173240" y="4383000"/>
          <a:ext cx="33012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对象 10506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240" y="4383000"/>
                    <a:ext cx="330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1051649"/>
          <p:cNvSpPr/>
          <p:nvPr/>
        </p:nvSpPr>
        <p:spPr>
          <a:xfrm>
            <a:off x="263520" y="143352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小升初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两个相同容器中各装满盐水，第一个容器中盐与水的比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: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第二个容器中盐与水的比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: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把这两个容器中的盐水全部倒入另一个大容器中，那么混合溶液中的盐与水的比是多少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     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∶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     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7∶1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52" name="对象 1051650"/>
          <p:cNvGraphicFramePr/>
          <p:nvPr/>
        </p:nvGraphicFramePr>
        <p:xfrm>
          <a:off x="646200" y="3500280"/>
          <a:ext cx="6984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对象 10516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3500280"/>
                    <a:ext cx="698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对象 1051651"/>
          <p:cNvGraphicFramePr/>
          <p:nvPr/>
        </p:nvGraphicFramePr>
        <p:xfrm>
          <a:off x="2200320" y="3519360"/>
          <a:ext cx="69840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对象 10516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0320" y="3519360"/>
                    <a:ext cx="698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1056772"/>
          <p:cNvSpPr/>
          <p:nvPr/>
        </p:nvSpPr>
        <p:spPr>
          <a:xfrm>
            <a:off x="263520" y="191124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600870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读作（                   ），把这个数改写成用“万”作单位的数是（          ），省略“亿”后面的尾数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支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元记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-3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元，收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元记作（     ）元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最小公倍数是（    ），最大公因数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解质因数是（            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文本框 1056773"/>
          <p:cNvSpPr/>
          <p:nvPr/>
        </p:nvSpPr>
        <p:spPr>
          <a:xfrm>
            <a:off x="2941560" y="2375280"/>
            <a:ext cx="3146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五亿六千零八万七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文本框 1056774"/>
          <p:cNvSpPr/>
          <p:nvPr/>
        </p:nvSpPr>
        <p:spPr>
          <a:xfrm>
            <a:off x="3024360" y="2870640"/>
            <a:ext cx="1685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6008.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文本框 1056775"/>
          <p:cNvSpPr/>
          <p:nvPr/>
        </p:nvSpPr>
        <p:spPr>
          <a:xfrm>
            <a:off x="563400" y="3378600"/>
            <a:ext cx="70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亿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文本框 1056776"/>
          <p:cNvSpPr/>
          <p:nvPr/>
        </p:nvSpPr>
        <p:spPr>
          <a:xfrm>
            <a:off x="6041880" y="3886560"/>
            <a:ext cx="87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+50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文本框 1056777"/>
          <p:cNvSpPr/>
          <p:nvPr/>
        </p:nvSpPr>
        <p:spPr>
          <a:xfrm>
            <a:off x="4079880" y="4381920"/>
            <a:ext cx="704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文本框 1056778"/>
          <p:cNvSpPr/>
          <p:nvPr/>
        </p:nvSpPr>
        <p:spPr>
          <a:xfrm>
            <a:off x="7202520" y="4381920"/>
            <a:ext cx="377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文本框 1056779"/>
          <p:cNvSpPr/>
          <p:nvPr/>
        </p:nvSpPr>
        <p:spPr>
          <a:xfrm>
            <a:off x="3381480" y="4889880"/>
            <a:ext cx="2825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8=2×2×2×2×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1052673"/>
          <p:cNvSpPr/>
          <p:nvPr/>
        </p:nvSpPr>
        <p:spPr>
          <a:xfrm>
            <a:off x="254160" y="1670040"/>
            <a:ext cx="93074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  中，当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）时，  是真分数；当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）时， 是假分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数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0.4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%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3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 ）千克；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(  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65" name="对象 1052674"/>
          <p:cNvGraphicFramePr/>
          <p:nvPr/>
        </p:nvGraphicFramePr>
        <p:xfrm>
          <a:off x="1031760" y="1731960"/>
          <a:ext cx="2034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对象 10526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731960"/>
                    <a:ext cx="203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文本框 1052675"/>
          <p:cNvSpPr/>
          <p:nvPr/>
        </p:nvSpPr>
        <p:spPr>
          <a:xfrm>
            <a:off x="2550240" y="1626120"/>
            <a:ext cx="500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&lt;9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68" name="对象 1052676"/>
          <p:cNvGraphicFramePr/>
          <p:nvPr/>
        </p:nvGraphicFramePr>
        <p:xfrm>
          <a:off x="3833640" y="1751040"/>
          <a:ext cx="2034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对象 10526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33640" y="1751040"/>
                    <a:ext cx="203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文本框 1052677"/>
          <p:cNvSpPr/>
          <p:nvPr/>
        </p:nvSpPr>
        <p:spPr>
          <a:xfrm>
            <a:off x="6240600" y="1626120"/>
            <a:ext cx="574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≥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71" name="对象 1052678"/>
          <p:cNvGraphicFramePr/>
          <p:nvPr/>
        </p:nvGraphicFramePr>
        <p:xfrm>
          <a:off x="7569360" y="1731960"/>
          <a:ext cx="2030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对象 105267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69360" y="173196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对象 1052679"/>
          <p:cNvGraphicFramePr/>
          <p:nvPr/>
        </p:nvGraphicFramePr>
        <p:xfrm>
          <a:off x="981000" y="2728800"/>
          <a:ext cx="1536840" cy="67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对象 105267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81000" y="2728800"/>
                    <a:ext cx="15368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文本框 1052680"/>
          <p:cNvSpPr/>
          <p:nvPr/>
        </p:nvSpPr>
        <p:spPr>
          <a:xfrm>
            <a:off x="905040" y="2460960"/>
            <a:ext cx="796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文本框 1052681"/>
          <p:cNvSpPr/>
          <p:nvPr/>
        </p:nvSpPr>
        <p:spPr>
          <a:xfrm>
            <a:off x="915840" y="2854800"/>
            <a:ext cx="797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文本框 1052683"/>
          <p:cNvSpPr/>
          <p:nvPr/>
        </p:nvSpPr>
        <p:spPr>
          <a:xfrm>
            <a:off x="1790640" y="2481480"/>
            <a:ext cx="797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文本框 1052684"/>
          <p:cNvSpPr/>
          <p:nvPr/>
        </p:nvSpPr>
        <p:spPr>
          <a:xfrm>
            <a:off x="3384720" y="2629440"/>
            <a:ext cx="698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文本框 1052685"/>
          <p:cNvSpPr/>
          <p:nvPr/>
        </p:nvSpPr>
        <p:spPr>
          <a:xfrm>
            <a:off x="4502160" y="2629440"/>
            <a:ext cx="698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0" name="文本框 1052686"/>
          <p:cNvSpPr/>
          <p:nvPr/>
        </p:nvSpPr>
        <p:spPr>
          <a:xfrm>
            <a:off x="5492880" y="2629440"/>
            <a:ext cx="698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文本框 1052687"/>
          <p:cNvSpPr/>
          <p:nvPr/>
        </p:nvSpPr>
        <p:spPr>
          <a:xfrm>
            <a:off x="6622920" y="2629440"/>
            <a:ext cx="698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文本框 1052688"/>
          <p:cNvSpPr/>
          <p:nvPr/>
        </p:nvSpPr>
        <p:spPr>
          <a:xfrm>
            <a:off x="7520040" y="2629440"/>
            <a:ext cx="1000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文本框 1052689"/>
          <p:cNvSpPr/>
          <p:nvPr/>
        </p:nvSpPr>
        <p:spPr>
          <a:xfrm>
            <a:off x="1917720" y="3645360"/>
            <a:ext cx="1498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36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文本框 1052690"/>
          <p:cNvSpPr/>
          <p:nvPr/>
        </p:nvSpPr>
        <p:spPr>
          <a:xfrm>
            <a:off x="1112760" y="4140720"/>
            <a:ext cx="720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文本框 1052691"/>
          <p:cNvSpPr/>
          <p:nvPr/>
        </p:nvSpPr>
        <p:spPr>
          <a:xfrm>
            <a:off x="1878120" y="4140720"/>
            <a:ext cx="1031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文本框 1060865"/>
          <p:cNvSpPr/>
          <p:nvPr/>
        </p:nvSpPr>
        <p:spPr>
          <a:xfrm>
            <a:off x="214200" y="214164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王师傅每小时生产零件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小时生产零件（   ）个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比值是（  ），把它化成最简整数比是（     ），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果后项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要使比值不变，前项应（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文本框 1060866"/>
          <p:cNvSpPr/>
          <p:nvPr/>
        </p:nvSpPr>
        <p:spPr>
          <a:xfrm>
            <a:off x="6380280" y="2095920"/>
            <a:ext cx="917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tx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88" name="对象 1060867"/>
          <p:cNvGraphicFramePr/>
          <p:nvPr/>
        </p:nvGraphicFramePr>
        <p:xfrm>
          <a:off x="963720" y="2705040"/>
          <a:ext cx="2030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对象 10608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2705040"/>
                    <a:ext cx="203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对象 1060868"/>
          <p:cNvGraphicFramePr/>
          <p:nvPr/>
        </p:nvGraphicFramePr>
        <p:xfrm>
          <a:off x="3292560" y="2693880"/>
          <a:ext cx="203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对象 10608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92560" y="2693880"/>
                    <a:ext cx="203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文本框 1060869"/>
          <p:cNvSpPr/>
          <p:nvPr/>
        </p:nvSpPr>
        <p:spPr>
          <a:xfrm>
            <a:off x="6821640" y="2603880"/>
            <a:ext cx="1469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∶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文本框 1060870"/>
          <p:cNvSpPr/>
          <p:nvPr/>
        </p:nvSpPr>
        <p:spPr>
          <a:xfrm>
            <a:off x="4902120" y="3111840"/>
            <a:ext cx="1193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乘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1061889"/>
          <p:cNvSpPr/>
          <p:nvPr/>
        </p:nvSpPr>
        <p:spPr>
          <a:xfrm>
            <a:off x="254160" y="1717560"/>
            <a:ext cx="86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判断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饲养场鸡比鸭多  ，则鸭比鸡少  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互为倒数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分数值一定，分子和分母成反比例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5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大小相等，计数单位也相同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人，每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人握一次手，一共要握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次。 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95" name="对象 1061890"/>
          <p:cNvGraphicFramePr/>
          <p:nvPr/>
        </p:nvGraphicFramePr>
        <p:xfrm>
          <a:off x="3048120" y="2281320"/>
          <a:ext cx="2030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对象 10618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132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对象 1061891"/>
          <p:cNvGraphicFramePr/>
          <p:nvPr/>
        </p:nvGraphicFramePr>
        <p:xfrm>
          <a:off x="5033880" y="2290680"/>
          <a:ext cx="20340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对象 10618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3880" y="2290680"/>
                    <a:ext cx="203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文本框 1061892"/>
          <p:cNvSpPr/>
          <p:nvPr/>
        </p:nvSpPr>
        <p:spPr>
          <a:xfrm>
            <a:off x="5519880" y="2172240"/>
            <a:ext cx="1038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文本框 1061893"/>
          <p:cNvSpPr/>
          <p:nvPr/>
        </p:nvSpPr>
        <p:spPr>
          <a:xfrm>
            <a:off x="3411360" y="2680200"/>
            <a:ext cx="1038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文本框 1061894"/>
          <p:cNvSpPr/>
          <p:nvPr/>
        </p:nvSpPr>
        <p:spPr>
          <a:xfrm>
            <a:off x="5519880" y="3188160"/>
            <a:ext cx="1038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2" name="文本框 1061895"/>
          <p:cNvSpPr/>
          <p:nvPr/>
        </p:nvSpPr>
        <p:spPr>
          <a:xfrm>
            <a:off x="5938920" y="3683520"/>
            <a:ext cx="1038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文本框 1061896"/>
          <p:cNvSpPr/>
          <p:nvPr/>
        </p:nvSpPr>
        <p:spPr>
          <a:xfrm>
            <a:off x="5938920" y="4191480"/>
            <a:ext cx="1038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文本框 1062913"/>
          <p:cNvSpPr/>
          <p:nvPr/>
        </p:nvSpPr>
        <p:spPr>
          <a:xfrm>
            <a:off x="263520" y="154764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一选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不等于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自然数，下面各式计算结果最大的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a×              B.a÷            C.a-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每年的第三季度都是（  ）天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90               B.91             C.9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李小强是六年级学生，他的体重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吨  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千克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文本框 1062914"/>
          <p:cNvSpPr/>
          <p:nvPr/>
        </p:nvSpPr>
        <p:spPr>
          <a:xfrm>
            <a:off x="7199280" y="2007000"/>
            <a:ext cx="917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文本框 1062915"/>
          <p:cNvSpPr/>
          <p:nvPr/>
        </p:nvSpPr>
        <p:spPr>
          <a:xfrm>
            <a:off x="3554280" y="3010320"/>
            <a:ext cx="917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文本框 1062916"/>
          <p:cNvSpPr/>
          <p:nvPr/>
        </p:nvSpPr>
        <p:spPr>
          <a:xfrm>
            <a:off x="5522760" y="4026240"/>
            <a:ext cx="917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208" name="对象 1062917"/>
          <p:cNvGraphicFramePr/>
          <p:nvPr/>
        </p:nvGraphicFramePr>
        <p:xfrm>
          <a:off x="1081080" y="2616120"/>
          <a:ext cx="2030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对象 10629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2616120"/>
                    <a:ext cx="203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对象 1062918"/>
          <p:cNvGraphicFramePr/>
          <p:nvPr/>
        </p:nvGraphicFramePr>
        <p:xfrm>
          <a:off x="3774960" y="2635200"/>
          <a:ext cx="2034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对象 10629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74960" y="2635200"/>
                    <a:ext cx="203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对象 1062919"/>
          <p:cNvGraphicFramePr/>
          <p:nvPr/>
        </p:nvGraphicFramePr>
        <p:xfrm>
          <a:off x="6046920" y="2655720"/>
          <a:ext cx="20304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对象 10629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46920" y="2655720"/>
                    <a:ext cx="203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文本框 1063937"/>
          <p:cNvSpPr/>
          <p:nvPr/>
        </p:nvSpPr>
        <p:spPr>
          <a:xfrm>
            <a:off x="139680" y="1300320"/>
            <a:ext cx="888048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当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=(  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2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2              B.1               C.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根绳子用去  后还剩  米，用去的与剩下的比较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用去的多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剩下的多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相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在下列各项中，成反比例关系的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长方形周长一定，长方形的长和宽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生产零件的总时间一定，零件个数与生产每个零件所需要的时间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人的年龄和身高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文本框 1063938"/>
          <p:cNvSpPr/>
          <p:nvPr/>
        </p:nvSpPr>
        <p:spPr>
          <a:xfrm>
            <a:off x="1387440" y="1257840"/>
            <a:ext cx="781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216" name="对象 1063939"/>
          <p:cNvGraphicFramePr/>
          <p:nvPr/>
        </p:nvGraphicFramePr>
        <p:xfrm>
          <a:off x="2684520" y="2359080"/>
          <a:ext cx="2030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对象 10639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4520" y="235908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对象 1063940"/>
          <p:cNvGraphicFramePr/>
          <p:nvPr/>
        </p:nvGraphicFramePr>
        <p:xfrm>
          <a:off x="3795840" y="2379600"/>
          <a:ext cx="203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对象 10639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5840" y="2379600"/>
                    <a:ext cx="203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文本框 1063941"/>
          <p:cNvSpPr/>
          <p:nvPr/>
        </p:nvSpPr>
        <p:spPr>
          <a:xfrm>
            <a:off x="7153200" y="2261160"/>
            <a:ext cx="781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文本框 1063942"/>
          <p:cNvSpPr/>
          <p:nvPr/>
        </p:nvSpPr>
        <p:spPr>
          <a:xfrm>
            <a:off x="5184720" y="3264120"/>
            <a:ext cx="781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1014785"/>
          <p:cNvSpPr/>
          <p:nvPr/>
        </p:nvSpPr>
        <p:spPr>
          <a:xfrm>
            <a:off x="254160" y="1930320"/>
            <a:ext cx="86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起跑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化成最简整数比是（     ），比值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（   ）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因数有（                         ），从里面任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组成比例式（                     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∶8=5∶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b=(   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82" name="对象 1014798"/>
          <p:cNvGraphicFramePr/>
          <p:nvPr/>
        </p:nvGraphicFramePr>
        <p:xfrm>
          <a:off x="1395360" y="2998800"/>
          <a:ext cx="2034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对象 10147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5360" y="2998800"/>
                    <a:ext cx="203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文本框 1014799"/>
          <p:cNvSpPr/>
          <p:nvPr/>
        </p:nvSpPr>
        <p:spPr>
          <a:xfrm>
            <a:off x="4606920" y="2895840"/>
            <a:ext cx="1200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∶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85" name="对象 1014800"/>
          <p:cNvGraphicFramePr/>
          <p:nvPr/>
        </p:nvGraphicFramePr>
        <p:xfrm>
          <a:off x="7267680" y="3008160"/>
          <a:ext cx="203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对象 10148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67680" y="3008160"/>
                    <a:ext cx="203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对象 1014801"/>
          <p:cNvGraphicFramePr/>
          <p:nvPr/>
        </p:nvGraphicFramePr>
        <p:xfrm>
          <a:off x="1681200" y="3510000"/>
          <a:ext cx="3175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对象 101480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1200" y="3510000"/>
                    <a:ext cx="317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文本框 1014802"/>
          <p:cNvSpPr/>
          <p:nvPr/>
        </p:nvSpPr>
        <p:spPr>
          <a:xfrm>
            <a:off x="3836880" y="3391200"/>
            <a:ext cx="746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文本框 1014803"/>
          <p:cNvSpPr/>
          <p:nvPr/>
        </p:nvSpPr>
        <p:spPr>
          <a:xfrm>
            <a:off x="1650960" y="3899160"/>
            <a:ext cx="5715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文本框 1014804"/>
          <p:cNvSpPr/>
          <p:nvPr/>
        </p:nvSpPr>
        <p:spPr>
          <a:xfrm>
            <a:off x="900000" y="4407120"/>
            <a:ext cx="5934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∶1=24∶1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答案不唯一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文本框 1014806"/>
          <p:cNvSpPr/>
          <p:nvPr/>
        </p:nvSpPr>
        <p:spPr>
          <a:xfrm>
            <a:off x="3724200" y="4921560"/>
            <a:ext cx="959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1064961"/>
          <p:cNvSpPr/>
          <p:nvPr/>
        </p:nvSpPr>
        <p:spPr>
          <a:xfrm>
            <a:off x="263520" y="190512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比的前项扩大到原来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，后项缩小到原来的  ，比值就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缩小到原来的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扩大到原来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扩大到原来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223" name="对象 1064962"/>
          <p:cNvGraphicFramePr/>
          <p:nvPr/>
        </p:nvGraphicFramePr>
        <p:xfrm>
          <a:off x="6862680" y="1946160"/>
          <a:ext cx="2034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对象 10649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2680" y="1946160"/>
                    <a:ext cx="203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对象 1064963"/>
          <p:cNvGraphicFramePr/>
          <p:nvPr/>
        </p:nvGraphicFramePr>
        <p:xfrm>
          <a:off x="2370240" y="2987640"/>
          <a:ext cx="2030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对象 106496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0240" y="298764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文本框 1064964"/>
          <p:cNvSpPr/>
          <p:nvPr/>
        </p:nvSpPr>
        <p:spPr>
          <a:xfrm>
            <a:off x="177840" y="2362680"/>
            <a:ext cx="1193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文本框 1065985"/>
          <p:cNvSpPr/>
          <p:nvPr/>
        </p:nvSpPr>
        <p:spPr>
          <a:xfrm>
            <a:off x="254160" y="1757520"/>
            <a:ext cx="8619840" cy="30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计算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直接写得数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          1÷0.5=            10-0.1%=    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          0.25÷0.75=        8-  =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5×12=                =          0.29+2.7=   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229" name="对象 1065986"/>
          <p:cNvGraphicFramePr/>
          <p:nvPr/>
        </p:nvGraphicFramePr>
        <p:xfrm>
          <a:off x="423720" y="2948040"/>
          <a:ext cx="5968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对象 106598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2948040"/>
                    <a:ext cx="596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对象 1065987"/>
          <p:cNvGraphicFramePr/>
          <p:nvPr/>
        </p:nvGraphicFramePr>
        <p:xfrm>
          <a:off x="1243080" y="2959200"/>
          <a:ext cx="3301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对象 106598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2959200"/>
                    <a:ext cx="330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文本框 1065988"/>
          <p:cNvSpPr/>
          <p:nvPr/>
        </p:nvSpPr>
        <p:spPr>
          <a:xfrm>
            <a:off x="3406680" y="2845080"/>
            <a:ext cx="654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4" name="文本框 1065989"/>
          <p:cNvSpPr/>
          <p:nvPr/>
        </p:nvSpPr>
        <p:spPr>
          <a:xfrm>
            <a:off x="5958000" y="2845080"/>
            <a:ext cx="1787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.999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235" name="对象 1065990"/>
          <p:cNvGraphicFramePr/>
          <p:nvPr/>
        </p:nvGraphicFramePr>
        <p:xfrm>
          <a:off x="355680" y="3568680"/>
          <a:ext cx="6732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对象 10659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5680" y="3568680"/>
                    <a:ext cx="673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对象 1065991"/>
          <p:cNvGraphicFramePr/>
          <p:nvPr/>
        </p:nvGraphicFramePr>
        <p:xfrm>
          <a:off x="1244520" y="3606840"/>
          <a:ext cx="33012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" name="对象 10659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44520" y="3606840"/>
                    <a:ext cx="330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对象 1065992"/>
          <p:cNvGraphicFramePr/>
          <p:nvPr/>
        </p:nvGraphicFramePr>
        <p:xfrm>
          <a:off x="4203720" y="3589200"/>
          <a:ext cx="19044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0" name="对象 106599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03720" y="3589200"/>
                    <a:ext cx="190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对象 1065993"/>
          <p:cNvGraphicFramePr/>
          <p:nvPr/>
        </p:nvGraphicFramePr>
        <p:xfrm>
          <a:off x="5603760" y="3578400"/>
          <a:ext cx="20340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2" name="对象 106599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03760" y="3578400"/>
                    <a:ext cx="203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对象 1065994"/>
          <p:cNvGraphicFramePr/>
          <p:nvPr/>
        </p:nvGraphicFramePr>
        <p:xfrm>
          <a:off x="6053040" y="3598920"/>
          <a:ext cx="36828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4" name="对象 106599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53040" y="3598920"/>
                    <a:ext cx="368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文本框 1065995"/>
          <p:cNvSpPr/>
          <p:nvPr/>
        </p:nvSpPr>
        <p:spPr>
          <a:xfrm>
            <a:off x="1214280" y="4127760"/>
            <a:ext cx="936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246" name="对象 1065996"/>
          <p:cNvGraphicFramePr/>
          <p:nvPr/>
        </p:nvGraphicFramePr>
        <p:xfrm>
          <a:off x="2606760" y="4216320"/>
          <a:ext cx="1003320" cy="609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对象 106599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06760" y="4216320"/>
                    <a:ext cx="1003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对象 1065997"/>
          <p:cNvGraphicFramePr/>
          <p:nvPr/>
        </p:nvGraphicFramePr>
        <p:xfrm>
          <a:off x="3940200" y="4227480"/>
          <a:ext cx="30492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9" name="对象 106599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40200" y="4227480"/>
                    <a:ext cx="304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文本框 1065998"/>
          <p:cNvSpPr/>
          <p:nvPr/>
        </p:nvSpPr>
        <p:spPr>
          <a:xfrm>
            <a:off x="6168960" y="4127760"/>
            <a:ext cx="1505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.99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文本框 1057793"/>
          <p:cNvSpPr/>
          <p:nvPr/>
        </p:nvSpPr>
        <p:spPr>
          <a:xfrm>
            <a:off x="263520" y="111924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计算，能简算的要简算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2" name="图片 1057795" descr=""/>
          <p:cNvPicPr/>
          <p:nvPr/>
        </p:nvPicPr>
        <p:blipFill>
          <a:blip r:embed="rId1"/>
          <a:stretch/>
        </p:blipFill>
        <p:spPr>
          <a:xfrm>
            <a:off x="890640" y="1778040"/>
            <a:ext cx="5346720" cy="3744720"/>
          </a:xfrm>
          <a:prstGeom prst="rect">
            <a:avLst/>
          </a:prstGeom>
          <a:ln w="0">
            <a:noFill/>
          </a:ln>
        </p:spPr>
      </p:pic>
      <p:sp>
        <p:nvSpPr>
          <p:cNvPr id="253" name="矩形 1057796"/>
          <p:cNvSpPr/>
          <p:nvPr/>
        </p:nvSpPr>
        <p:spPr>
          <a:xfrm>
            <a:off x="846000" y="2585880"/>
            <a:ext cx="2084400" cy="13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矩形 1057797"/>
          <p:cNvSpPr/>
          <p:nvPr/>
        </p:nvSpPr>
        <p:spPr>
          <a:xfrm>
            <a:off x="4100400" y="2585880"/>
            <a:ext cx="1101960" cy="13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5" name="矩形 1057798"/>
          <p:cNvSpPr/>
          <p:nvPr/>
        </p:nvSpPr>
        <p:spPr>
          <a:xfrm>
            <a:off x="816120" y="4632480"/>
            <a:ext cx="154440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6" name="矩形 1057799"/>
          <p:cNvSpPr/>
          <p:nvPr/>
        </p:nvSpPr>
        <p:spPr>
          <a:xfrm>
            <a:off x="3440160" y="4632480"/>
            <a:ext cx="15447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1067010" descr=""/>
          <p:cNvPicPr/>
          <p:nvPr/>
        </p:nvPicPr>
        <p:blipFill>
          <a:blip r:embed="rId1"/>
          <a:stretch/>
        </p:blipFill>
        <p:spPr>
          <a:xfrm>
            <a:off x="1481040" y="1963800"/>
            <a:ext cx="5129280" cy="2562120"/>
          </a:xfrm>
          <a:prstGeom prst="rect">
            <a:avLst/>
          </a:prstGeom>
          <a:ln w="0">
            <a:noFill/>
          </a:ln>
        </p:spPr>
      </p:pic>
      <p:sp>
        <p:nvSpPr>
          <p:cNvPr id="258" name="矩形 1067011"/>
          <p:cNvSpPr/>
          <p:nvPr/>
        </p:nvSpPr>
        <p:spPr>
          <a:xfrm>
            <a:off x="1662120" y="2654280"/>
            <a:ext cx="2084400" cy="181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9" name="矩形 1067012"/>
          <p:cNvSpPr/>
          <p:nvPr/>
        </p:nvSpPr>
        <p:spPr>
          <a:xfrm>
            <a:off x="4395960" y="2703600"/>
            <a:ext cx="1357200" cy="13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文本框 1068033"/>
          <p:cNvSpPr/>
          <p:nvPr/>
        </p:nvSpPr>
        <p:spPr>
          <a:xfrm>
            <a:off x="282600" y="116064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求未知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61" name="图片 1068035" descr=""/>
          <p:cNvPicPr/>
          <p:nvPr/>
        </p:nvPicPr>
        <p:blipFill>
          <a:blip r:embed="rId1"/>
          <a:stretch/>
        </p:blipFill>
        <p:spPr>
          <a:xfrm>
            <a:off x="1444680" y="1701720"/>
            <a:ext cx="4886280" cy="3925800"/>
          </a:xfrm>
          <a:prstGeom prst="rect">
            <a:avLst/>
          </a:prstGeom>
          <a:ln w="0">
            <a:noFill/>
          </a:ln>
        </p:spPr>
      </p:pic>
      <p:sp>
        <p:nvSpPr>
          <p:cNvPr id="262" name="矩形 1068036"/>
          <p:cNvSpPr/>
          <p:nvPr/>
        </p:nvSpPr>
        <p:spPr>
          <a:xfrm>
            <a:off x="1515960" y="2368440"/>
            <a:ext cx="2271960" cy="14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矩形 1068037"/>
          <p:cNvSpPr/>
          <p:nvPr/>
        </p:nvSpPr>
        <p:spPr>
          <a:xfrm>
            <a:off x="4160880" y="2309760"/>
            <a:ext cx="171144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4" name="矩形 1068038"/>
          <p:cNvSpPr/>
          <p:nvPr/>
        </p:nvSpPr>
        <p:spPr>
          <a:xfrm>
            <a:off x="1417680" y="4392720"/>
            <a:ext cx="20858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5" name="矩形 1068039"/>
          <p:cNvSpPr/>
          <p:nvPr/>
        </p:nvSpPr>
        <p:spPr>
          <a:xfrm>
            <a:off x="4149720" y="4371840"/>
            <a:ext cx="208584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文本框 1069057"/>
          <p:cNvSpPr/>
          <p:nvPr/>
        </p:nvSpPr>
        <p:spPr>
          <a:xfrm>
            <a:off x="263520" y="1214280"/>
            <a:ext cx="862020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化简比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0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吨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千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                      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求每组数的最大公因数和最小公倍数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0                    7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267" name="对象 1069058"/>
          <p:cNvGraphicFramePr/>
          <p:nvPr/>
        </p:nvGraphicFramePr>
        <p:xfrm>
          <a:off x="419040" y="1825560"/>
          <a:ext cx="1904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对象 10690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825560"/>
                    <a:ext cx="190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矩形 1069059"/>
          <p:cNvSpPr/>
          <p:nvPr/>
        </p:nvSpPr>
        <p:spPr>
          <a:xfrm>
            <a:off x="4537440" y="4049640"/>
            <a:ext cx="1896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最大公因数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最小公倍数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8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0" name="文本框 1069060"/>
          <p:cNvSpPr/>
          <p:nvPr/>
        </p:nvSpPr>
        <p:spPr>
          <a:xfrm>
            <a:off x="890640" y="2311920"/>
            <a:ext cx="900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5:2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1" name="文本框 1069061"/>
          <p:cNvSpPr/>
          <p:nvPr/>
        </p:nvSpPr>
        <p:spPr>
          <a:xfrm>
            <a:off x="3871440" y="2311920"/>
            <a:ext cx="740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:1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矩形 1069062"/>
          <p:cNvSpPr/>
          <p:nvPr/>
        </p:nvSpPr>
        <p:spPr>
          <a:xfrm>
            <a:off x="810000" y="4049640"/>
            <a:ext cx="1896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最大公因数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最小公倍数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8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文本框 1070081"/>
          <p:cNvSpPr/>
          <p:nvPr/>
        </p:nvSpPr>
        <p:spPr>
          <a:xfrm>
            <a:off x="263520" y="1649520"/>
            <a:ext cx="86202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解决问题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有两堆煤，从甲堆运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给乙堆，这时两堆煤正好相等，已知甲堆原有煤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2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吨，乙堆原有煤多少吨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20×25%=8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吨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20-80×2=16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吨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乙堆原有煤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6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吨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1071105"/>
          <p:cNvSpPr/>
          <p:nvPr/>
        </p:nvSpPr>
        <p:spPr>
          <a:xfrm>
            <a:off x="233280" y="171936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幸福村去年小麦亩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4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千克，比前年增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%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比前年增产多少千克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40÷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+10%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4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千克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40-400=4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千克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比前年增产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框 1072129"/>
          <p:cNvSpPr/>
          <p:nvPr/>
        </p:nvSpPr>
        <p:spPr>
          <a:xfrm>
            <a:off x="223920" y="168912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甲、乙两车同时从同一地点向相反方向出发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小时相距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2.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千米。已知甲、乙两车的速度比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∶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甲每小时行多少千米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2.5÷1.5×     =6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千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甲每小时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276" name="对象 1072130"/>
          <p:cNvGraphicFramePr/>
          <p:nvPr/>
        </p:nvGraphicFramePr>
        <p:xfrm>
          <a:off x="2025720" y="3243240"/>
          <a:ext cx="55872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对象 10721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5720" y="3243240"/>
                    <a:ext cx="5587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文本框 1058817"/>
          <p:cNvSpPr/>
          <p:nvPr/>
        </p:nvSpPr>
        <p:spPr>
          <a:xfrm>
            <a:off x="263520" y="202248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仓库里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吨水泥。第一天用去总数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第二天用去  吨。仓库里还剩下水泥多少吨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5-15×20%-  =11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吨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仓库里还剩下水泥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1 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吨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279" name="对象 1058818"/>
          <p:cNvGraphicFramePr/>
          <p:nvPr/>
        </p:nvGraphicFramePr>
        <p:xfrm>
          <a:off x="7962840" y="2073240"/>
          <a:ext cx="2034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对象 10588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2073240"/>
                    <a:ext cx="203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对象 1058819"/>
          <p:cNvGraphicFramePr/>
          <p:nvPr/>
        </p:nvGraphicFramePr>
        <p:xfrm>
          <a:off x="1944720" y="3095640"/>
          <a:ext cx="2030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对象 10588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4720" y="309564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对象 1058820"/>
          <p:cNvGraphicFramePr/>
          <p:nvPr/>
        </p:nvGraphicFramePr>
        <p:xfrm>
          <a:off x="2641680" y="3076560"/>
          <a:ext cx="2030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对象 10588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1680" y="307656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对象 1058821"/>
          <p:cNvGraphicFramePr/>
          <p:nvPr/>
        </p:nvGraphicFramePr>
        <p:xfrm>
          <a:off x="3476520" y="3586320"/>
          <a:ext cx="20340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6" name="对象 10588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76520" y="3586320"/>
                    <a:ext cx="203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1015809"/>
          <p:cNvSpPr/>
          <p:nvPr/>
        </p:nvSpPr>
        <p:spPr>
          <a:xfrm>
            <a:off x="263520" y="1081080"/>
            <a:ext cx="86202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幅地图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表示实际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0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，则这幅图的比例尺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 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已知路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速度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时间，则有当（     ）一定，（     ）和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 ）成（   ）比例；当（     ）一定，（     ）和（ 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成（   ）比例； 当（     ）一定，（     ）和（  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（   ）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四个数字可以组成的比例为（           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: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前项加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如果要比值不变，后项应加上（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文本框 1015812"/>
          <p:cNvSpPr/>
          <p:nvPr/>
        </p:nvSpPr>
        <p:spPr>
          <a:xfrm>
            <a:off x="465120" y="1546560"/>
            <a:ext cx="174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∶40000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文本框 1015813"/>
          <p:cNvSpPr/>
          <p:nvPr/>
        </p:nvSpPr>
        <p:spPr>
          <a:xfrm>
            <a:off x="5037120" y="2041920"/>
            <a:ext cx="898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路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文本框 1015814"/>
          <p:cNvSpPr/>
          <p:nvPr/>
        </p:nvSpPr>
        <p:spPr>
          <a:xfrm>
            <a:off x="7145280" y="2041920"/>
            <a:ext cx="898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时间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文本框 1015815"/>
          <p:cNvSpPr/>
          <p:nvPr/>
        </p:nvSpPr>
        <p:spPr>
          <a:xfrm>
            <a:off x="541440" y="2549880"/>
            <a:ext cx="898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速度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8" name="文本框 1015816"/>
          <p:cNvSpPr/>
          <p:nvPr/>
        </p:nvSpPr>
        <p:spPr>
          <a:xfrm>
            <a:off x="2112840" y="2549880"/>
            <a:ext cx="561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反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文本框 1015817"/>
          <p:cNvSpPr/>
          <p:nvPr/>
        </p:nvSpPr>
        <p:spPr>
          <a:xfrm>
            <a:off x="4199040" y="2549880"/>
            <a:ext cx="898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时间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文本框 1015818"/>
          <p:cNvSpPr/>
          <p:nvPr/>
        </p:nvSpPr>
        <p:spPr>
          <a:xfrm>
            <a:off x="6307200" y="2549880"/>
            <a:ext cx="898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路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文本框 1015819"/>
          <p:cNvSpPr/>
          <p:nvPr/>
        </p:nvSpPr>
        <p:spPr>
          <a:xfrm>
            <a:off x="7878600" y="2549880"/>
            <a:ext cx="561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文本框 1015820"/>
          <p:cNvSpPr/>
          <p:nvPr/>
        </p:nvSpPr>
        <p:spPr>
          <a:xfrm>
            <a:off x="284040" y="3045240"/>
            <a:ext cx="561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度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文本框 1015821"/>
          <p:cNvSpPr/>
          <p:nvPr/>
        </p:nvSpPr>
        <p:spPr>
          <a:xfrm>
            <a:off x="1554120" y="3045240"/>
            <a:ext cx="561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文本框 1015822"/>
          <p:cNvSpPr/>
          <p:nvPr/>
        </p:nvSpPr>
        <p:spPr>
          <a:xfrm>
            <a:off x="3780000" y="3045240"/>
            <a:ext cx="898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速度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" name="文本框 1015823"/>
          <p:cNvSpPr/>
          <p:nvPr/>
        </p:nvSpPr>
        <p:spPr>
          <a:xfrm>
            <a:off x="5888160" y="3045240"/>
            <a:ext cx="898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路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文本框 1015824"/>
          <p:cNvSpPr/>
          <p:nvPr/>
        </p:nvSpPr>
        <p:spPr>
          <a:xfrm>
            <a:off x="7437600" y="3045240"/>
            <a:ext cx="898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时间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文本框 1015825"/>
          <p:cNvSpPr/>
          <p:nvPr/>
        </p:nvSpPr>
        <p:spPr>
          <a:xfrm>
            <a:off x="843120" y="3553200"/>
            <a:ext cx="561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" name="文本框 1015826"/>
          <p:cNvSpPr/>
          <p:nvPr/>
        </p:nvSpPr>
        <p:spPr>
          <a:xfrm>
            <a:off x="6611760" y="4051800"/>
            <a:ext cx="225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:8=3:1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答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文本框 1015827"/>
          <p:cNvSpPr/>
          <p:nvPr/>
        </p:nvSpPr>
        <p:spPr>
          <a:xfrm>
            <a:off x="173160" y="4559760"/>
            <a:ext cx="1914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案不唯一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文本框 1015828"/>
          <p:cNvSpPr/>
          <p:nvPr/>
        </p:nvSpPr>
        <p:spPr>
          <a:xfrm>
            <a:off x="7446960" y="5067720"/>
            <a:ext cx="561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1073153"/>
          <p:cNvSpPr/>
          <p:nvPr/>
        </p:nvSpPr>
        <p:spPr>
          <a:xfrm>
            <a:off x="263520" y="130032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图中长方形表示的实际面积是多少平方米？比例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∶10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00cm=10m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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(5.5×10)×(2.4×10)=132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图中长方形表示的实际面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32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88" name="图片 1073154" descr=""/>
          <p:cNvPicPr/>
          <p:nvPr/>
        </p:nvPicPr>
        <p:blipFill>
          <a:blip r:embed="rId1"/>
          <a:stretch/>
        </p:blipFill>
        <p:spPr>
          <a:xfrm>
            <a:off x="2911320" y="2247840"/>
            <a:ext cx="33195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1043457"/>
          <p:cNvSpPr/>
          <p:nvPr/>
        </p:nvSpPr>
        <p:spPr>
          <a:xfrm>
            <a:off x="263520" y="1566720"/>
            <a:ext cx="86202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判断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场足球比赛的最后得分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: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所以比的后项也可以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图上距离一定，比例尺和实际距离成反比例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4:0.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化成最简比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比值相等的两个比可以组成比例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" name="文本框 1043458"/>
          <p:cNvSpPr/>
          <p:nvPr/>
        </p:nvSpPr>
        <p:spPr>
          <a:xfrm>
            <a:off x="7723080" y="2527560"/>
            <a:ext cx="1152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文本框 1043459"/>
          <p:cNvSpPr/>
          <p:nvPr/>
        </p:nvSpPr>
        <p:spPr>
          <a:xfrm>
            <a:off x="6593040" y="3035520"/>
            <a:ext cx="115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4" name="文本框 1043460"/>
          <p:cNvSpPr/>
          <p:nvPr/>
        </p:nvSpPr>
        <p:spPr>
          <a:xfrm>
            <a:off x="4357800" y="3543840"/>
            <a:ext cx="115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5" name="文本框 1043461"/>
          <p:cNvSpPr/>
          <p:nvPr/>
        </p:nvSpPr>
        <p:spPr>
          <a:xfrm>
            <a:off x="5183280" y="4038840"/>
            <a:ext cx="115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1044481"/>
          <p:cNvSpPr/>
          <p:nvPr/>
        </p:nvSpPr>
        <p:spPr>
          <a:xfrm>
            <a:off x="263520" y="126216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一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克盐溶解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克水中，盐与盐水的比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1∶10               B.1∶11              C.10∶1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从学校走到书店，小明用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钟，小兰用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钟，他们的速度比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5∶7                B.7∶5                C.12∶1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×2=B÷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那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∶B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2∶3               B.3∶2                C.1∶6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文本框 1044482"/>
          <p:cNvSpPr/>
          <p:nvPr/>
        </p:nvSpPr>
        <p:spPr>
          <a:xfrm>
            <a:off x="6540480" y="1727640"/>
            <a:ext cx="83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8" name="文本框 1044483"/>
          <p:cNvSpPr/>
          <p:nvPr/>
        </p:nvSpPr>
        <p:spPr>
          <a:xfrm>
            <a:off x="1193760" y="3238920"/>
            <a:ext cx="83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9" name="文本框 1044484"/>
          <p:cNvSpPr/>
          <p:nvPr/>
        </p:nvSpPr>
        <p:spPr>
          <a:xfrm>
            <a:off x="4444920" y="4242240"/>
            <a:ext cx="83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1045505"/>
          <p:cNvSpPr/>
          <p:nvPr/>
        </p:nvSpPr>
        <p:spPr>
          <a:xfrm>
            <a:off x="263520" y="182556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关系式中，（  ）中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成正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宋体"/>
              </a:rPr>
              <a:t>A.x×  =3         B.5x=6y             C.4÷x=y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各组中的两个比，可以组成比例的是（  ）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12: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:6              B.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： 和  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8.4:2.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2:8.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21" name="对象 1045506"/>
          <p:cNvGraphicFramePr/>
          <p:nvPr/>
        </p:nvGraphicFramePr>
        <p:xfrm>
          <a:off x="1203480" y="2392200"/>
          <a:ext cx="21564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对象 104550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2392200"/>
                    <a:ext cx="2156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对象 1045507"/>
          <p:cNvGraphicFramePr/>
          <p:nvPr/>
        </p:nvGraphicFramePr>
        <p:xfrm>
          <a:off x="4205160" y="3430440"/>
          <a:ext cx="19080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对象 104550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5160" y="3430440"/>
                    <a:ext cx="1908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对象 1045508"/>
          <p:cNvGraphicFramePr/>
          <p:nvPr/>
        </p:nvGraphicFramePr>
        <p:xfrm>
          <a:off x="4630680" y="3430440"/>
          <a:ext cx="20340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对象 104550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30680" y="3430440"/>
                    <a:ext cx="203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对象 1045509"/>
          <p:cNvGraphicFramePr/>
          <p:nvPr/>
        </p:nvGraphicFramePr>
        <p:xfrm>
          <a:off x="5191200" y="3430440"/>
          <a:ext cx="20304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对象 104550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91200" y="3430440"/>
                    <a:ext cx="203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对象 1045510"/>
          <p:cNvGraphicFramePr/>
          <p:nvPr/>
        </p:nvGraphicFramePr>
        <p:xfrm>
          <a:off x="5613480" y="3430440"/>
          <a:ext cx="20304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对象 10455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13480" y="3430440"/>
                    <a:ext cx="203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文本框 1045511"/>
          <p:cNvSpPr/>
          <p:nvPr/>
        </p:nvSpPr>
        <p:spPr>
          <a:xfrm>
            <a:off x="3002040" y="1778400"/>
            <a:ext cx="879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文本框 1045512"/>
          <p:cNvSpPr/>
          <p:nvPr/>
        </p:nvSpPr>
        <p:spPr>
          <a:xfrm>
            <a:off x="6100920" y="2794320"/>
            <a:ext cx="879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1046529"/>
          <p:cNvSpPr/>
          <p:nvPr/>
        </p:nvSpPr>
        <p:spPr>
          <a:xfrm>
            <a:off x="263520" y="113976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解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34" name="图片 1046530" descr=""/>
          <p:cNvPicPr/>
          <p:nvPr/>
        </p:nvPicPr>
        <p:blipFill>
          <a:blip r:embed="rId1"/>
          <a:stretch/>
        </p:blipFill>
        <p:spPr>
          <a:xfrm>
            <a:off x="1206360" y="1778040"/>
            <a:ext cx="5029200" cy="3925800"/>
          </a:xfrm>
          <a:prstGeom prst="rect">
            <a:avLst/>
          </a:prstGeom>
          <a:ln w="0">
            <a:noFill/>
          </a:ln>
        </p:spPr>
      </p:pic>
      <p:sp>
        <p:nvSpPr>
          <p:cNvPr id="135" name="矩形 1046531"/>
          <p:cNvSpPr/>
          <p:nvPr/>
        </p:nvSpPr>
        <p:spPr>
          <a:xfrm>
            <a:off x="1298520" y="2411280"/>
            <a:ext cx="2340000" cy="114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矩形 1046532"/>
          <p:cNvSpPr/>
          <p:nvPr/>
        </p:nvSpPr>
        <p:spPr>
          <a:xfrm>
            <a:off x="3943440" y="2411280"/>
            <a:ext cx="234000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矩形 1046533"/>
          <p:cNvSpPr/>
          <p:nvPr/>
        </p:nvSpPr>
        <p:spPr>
          <a:xfrm>
            <a:off x="1023840" y="4368960"/>
            <a:ext cx="23400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矩形 1046534"/>
          <p:cNvSpPr/>
          <p:nvPr/>
        </p:nvSpPr>
        <p:spPr>
          <a:xfrm>
            <a:off x="3854520" y="4368960"/>
            <a:ext cx="2095560" cy="112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077255" descr=""/>
          <p:cNvPicPr/>
          <p:nvPr/>
        </p:nvPicPr>
        <p:blipFill>
          <a:blip r:embed="rId1"/>
          <a:stretch/>
        </p:blipFill>
        <p:spPr>
          <a:xfrm>
            <a:off x="1515960" y="2095560"/>
            <a:ext cx="5559480" cy="1832040"/>
          </a:xfrm>
          <a:prstGeom prst="rect">
            <a:avLst/>
          </a:prstGeom>
          <a:ln w="0">
            <a:noFill/>
          </a:ln>
        </p:spPr>
      </p:pic>
      <p:sp>
        <p:nvSpPr>
          <p:cNvPr id="140" name="矩形 1077251"/>
          <p:cNvSpPr/>
          <p:nvPr/>
        </p:nvSpPr>
        <p:spPr>
          <a:xfrm>
            <a:off x="1467000" y="2825640"/>
            <a:ext cx="290016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矩形 1077252"/>
          <p:cNvSpPr/>
          <p:nvPr/>
        </p:nvSpPr>
        <p:spPr>
          <a:xfrm>
            <a:off x="4791240" y="2824200"/>
            <a:ext cx="233964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1047553"/>
          <p:cNvSpPr/>
          <p:nvPr/>
        </p:nvSpPr>
        <p:spPr>
          <a:xfrm>
            <a:off x="263520" y="130968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跳跳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解决问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长方体的棱长总和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它的长、宽、高的比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:3: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这个长方体的体积是多少立方厘米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0÷4=2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厘米）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÷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+3+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厘米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×5=1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厘米）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×3=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厘米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×2=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厘米）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×6×4=24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个长方体的体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4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立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0:29:56Z</dcterms:created>
  <dc:creator>世纪金榜</dc:creator>
  <dc:description/>
  <dc:language>en-US</dc:language>
  <cp:lastModifiedBy>admin</cp:lastModifiedBy>
  <dcterms:modified xsi:type="dcterms:W3CDTF">2018-01-22T00:38:57Z</dcterms:modified>
  <cp:revision>1348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